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239625" cy="7559675"/>
  <p:notesSz cx="7008813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1CA-91CD-4BA7-BD06-294C2BD4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11015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360" y="4370760"/>
            <a:ext cx="11015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D8A-CFCD-4F91-B616-8231E175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57160" y="176364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360" y="437076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57160" y="437076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E14-D72C-40DF-89C9-C5E55EEC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3546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36920" y="1763640"/>
            <a:ext cx="3546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61120" y="1763640"/>
            <a:ext cx="3546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360" y="4370760"/>
            <a:ext cx="3546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36920" y="4370760"/>
            <a:ext cx="3546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61120" y="4370760"/>
            <a:ext cx="35467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078-C15D-4F2A-AE78-CFFEBF82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360" y="1763640"/>
            <a:ext cx="1101564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943-4E3A-4C98-819E-FD924B9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110156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D1E-CEA6-48D8-9ECC-C4CFBD7C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537552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57160" y="1763640"/>
            <a:ext cx="537552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22F-0BEE-44BA-8AF2-7B72F4E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3BC-7189-42A5-A7A8-2CAFF3E6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360" y="303120"/>
            <a:ext cx="110156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905-E8BA-465F-9ECE-58D7F73F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57160" y="1763640"/>
            <a:ext cx="537552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360" y="437076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D70-27ED-45C1-A2FD-8D93B65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537552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57160" y="176364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57160" y="437076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5C4-3B71-4F1F-9F55-246D67A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360" y="176364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57160" y="1763640"/>
            <a:ext cx="537552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360" y="4370760"/>
            <a:ext cx="11015640" cy="23806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186-8975-4760-A3BA-5E99767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360" y="303120"/>
            <a:ext cx="11015640" cy="12607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763640"/>
            <a:ext cx="11015640" cy="49910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88800" indent="-388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98520" indent="-258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1764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38560" indent="-2606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38560" indent="-2606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38560" indent="-2606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885000"/>
            <a:ext cx="285588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83200" y="6885000"/>
            <a:ext cx="387504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72120" y="6885000"/>
            <a:ext cx="2855880" cy="52560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fld id="{5F571C28-6275-4425-9013-290B7284259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6000" y="900000"/>
            <a:ext cx="216000" cy="193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71520" y="1119240"/>
            <a:ext cx="3300480" cy="996840"/>
            <a:chOff x="371520" y="1119240"/>
            <a:chExt cx="3300480" cy="996840"/>
          </a:xfrm>
        </p:grpSpPr>
        <p:sp>
          <p:nvSpPr>
            <p:cNvPr id="43" name=""/>
            <p:cNvSpPr/>
            <p:nvPr/>
          </p:nvSpPr>
          <p:spPr>
            <a:xfrm>
              <a:off x="371520" y="1119240"/>
              <a:ext cx="3300480" cy="78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1520" y="1119240"/>
              <a:ext cx="3203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600" spc="-1" strike="noStrike" u="sng">
                  <a:solidFill>
                    <a:srgbClr val="000000"/>
                  </a:solidFill>
                  <a:uFillTx/>
                  <a:latin typeface="Arial"/>
                  <a:cs typeface="FreesiaUPC"/>
                </a:rPr>
                <a:t>วิสัยทัศน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6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่งเสริมองค์กรปกครองส่วนท้องถิ่น ให้มีการบริหารจัดการที่ดี เพื่อประโยชน์สุขของประชาช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181080" y="162000"/>
            <a:ext cx="3787560" cy="70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20" y="146160"/>
            <a:ext cx="403380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FreesiaUPC"/>
              </a:rPr>
              <a:t>ร่า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)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FreesiaUPC"/>
              </a:rPr>
              <a:t>ยุทธศาสตร์การพัฒน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FreesiaUPC"/>
              </a:rPr>
              <a:t>กรมส่งเสริมการปกครองท้องถิ่น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FreesiaUPC"/>
              </a:rPr>
              <a:t>(2550-25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32160" y="60480"/>
            <a:ext cx="7216920" cy="319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ระบบการบริหารจัดการของกรมส่งเสริมการปกครองท้องถิ่นและองค์กรปกครองส่วนท้องถิ่น ตาม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หลักธรรมาภิบา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บุคลากรและการบริหารงานบุคคลของกรมส่งเสริมการปกครองท้องถิ่น และองค์กรปกครองส่วนท้องถิ่น บนพื้นฐาน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หลักคุณ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3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ขีดความสามารถในการบริหารจัดการด้านการเงิน การคลังขององค์กรปกครองส่วนท้องถิ่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4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และใช้ประโยชน์จากระบบเทคโนโลยีสารสนเทศเพื่อการบริหารจัดการของกรมส่งเสริมการปกครองท้องถิ่นและองค์กรปกครองส่วนท้องถิ่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5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นำ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หลักปรัชญาเศรษฐกิจพอเพียง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ป็นแนวทางในการส่งเสริมและสนับสนุนองค์กรปกครองส่วนท้องถิ่น ในการพัฒนาเศรษฐกิจ สังค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ทรัพยากรธรรมชาติและสิ่งแวดล้อม การเมือง การปกครอง และความมั่นคง ให้สอดคล้องกับแผนพัฒนาเศรษฐกิจและสังคมแห่งชาต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แผนการบริหารราชการแผ่นดิน และความต้องการของชุมช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6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ระบบการจัดการศึกษาท้องถิ่น โดยยึด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หลักคุณธรรมนำความ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7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่งเสริมบทบาทขององค์กรปกครองส่วนท้องถิ่น ในการสร้างสังคมอยู่เย็นเป็นสุข มี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ความสมานฉันท์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โดยส่งเสริมให้ภาคประชาชน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มีส่วนร่วม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ในการปกครองใน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ระบอบประชาธิปไตย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อันมีพระมหากษัตริย์ทรงเป็นประมุ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8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นับสนุนการรักษาความมั่นคงของรัฐ โดยเฉพาะในพื้นที่</a:t>
            </a:r>
            <a:r>
              <a:rPr b="1" lang="th-TH" sz="1200" spc="-1" strike="noStrike">
                <a:solidFill>
                  <a:srgbClr val="cc0000"/>
                </a:solidFill>
                <a:latin typeface="Arial"/>
                <a:cs typeface="FreesiaUPC"/>
              </a:rPr>
              <a:t>จังหวัดชายแดนภาคใต้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5800" y="77760"/>
            <a:ext cx="863640" cy="750240"/>
            <a:chOff x="10945800" y="77760"/>
            <a:chExt cx="863640" cy="750240"/>
          </a:xfrm>
        </p:grpSpPr>
        <p:sp>
          <p:nvSpPr>
            <p:cNvPr id="49" name=""/>
            <p:cNvSpPr/>
            <p:nvPr/>
          </p:nvSpPr>
          <p:spPr>
            <a:xfrm>
              <a:off x="11023560" y="77760"/>
              <a:ext cx="785880" cy="534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945800" y="157320"/>
              <a:ext cx="86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9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พันธกิจ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778200" y="1444680"/>
            <a:ext cx="2142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92720" y="2124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53800" y="22446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2720" y="227484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087640" y="2255760"/>
            <a:ext cx="144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87640" y="2254320"/>
            <a:ext cx="806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7440" y="2451240"/>
            <a:ext cx="3703320" cy="576000"/>
            <a:chOff x="217440" y="2451240"/>
            <a:chExt cx="3703320" cy="576000"/>
          </a:xfrm>
        </p:grpSpPr>
        <p:sp>
          <p:nvSpPr>
            <p:cNvPr id="58" name=""/>
            <p:cNvSpPr/>
            <p:nvPr/>
          </p:nvSpPr>
          <p:spPr>
            <a:xfrm>
              <a:off x="217440" y="2451240"/>
              <a:ext cx="3703320" cy="57600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40" y="2451240"/>
              <a:ext cx="3703320" cy="4874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ประเด็นยุทธศาสตร์ที่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ส่งเสริมการบริหารจัดการที่ดี และกระจายอำนาจสู่ท้องถิ่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36520" y="3079800"/>
            <a:ext cx="3714840" cy="274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ป้า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520" y="3355920"/>
            <a:ext cx="3714840" cy="140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บุคลากรขององค์กรปกครองส่วนท้องถิ่น มีความรู้ ความเชี่ยวชาญ และทัศนคติที่ดีในการทำงาน ยึดมั่นในหลักคุณธรรมและจริ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องค์กรปกครองส่วนท้องถิ่น มีขีดความสามารถในการบริหารจัดการเพื่อรองรับการกระจายอำนาจสู่ท้องถิ่นได้ และเพื่อให้ประชาชนมีความเชื่อมั่น        และพึงพอใจในการบริหารงานขององค์กรปกครองส่วนท้องถิ่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7440" y="4557600"/>
            <a:ext cx="3715920" cy="3294360"/>
            <a:chOff x="217440" y="4557600"/>
            <a:chExt cx="3715920" cy="3294360"/>
          </a:xfrm>
        </p:grpSpPr>
        <p:sp>
          <p:nvSpPr>
            <p:cNvPr id="63" name=""/>
            <p:cNvSpPr/>
            <p:nvPr/>
          </p:nvSpPr>
          <p:spPr>
            <a:xfrm>
              <a:off x="217440" y="4557600"/>
              <a:ext cx="3714840" cy="274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ลยุทธ์หลั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520" y="4839840"/>
              <a:ext cx="3714840" cy="301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 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ารพัฒนาคุณภาพทรัพยากรบุคค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1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ารพัฒนาบุคลากรของกรมส่งเสริมการปกครองท้องถิ่น โดยเน้นให้   ท้องถิ่นจังหวัดและท้องถิ่นอำเภอ เป็นกลไกหลักของกรมส่งเสริมการปกครองท้องถิ่น ในระดับภูมิภาค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2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พัฒนาบุคลากรขององค์กรปกครองส่วนท้องถิ่น โดยมุ่งเน้นการสร้างจิตสำนึกในการบริหารงาน  ตามหลักธรรมาภิบาล และการพัฒนาตามหลักปรัชญาเศรษฐกิจพอเพีย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3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พัฒนาระบบบริหารงานบุคคลของกรมส่งเสริมการปกครองท้องถิ่น และองค์กรปกครองส่วนท้องถิ่นตามหลักคุณธรร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 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ารพัฒนาระบบบริหารจัดกา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พัฒนาการบริหารงานของกรมส่งเสริมการปกครองท้องถิ่น และองค์กรปกครอง  ส่วนท้องถิ่นให้เกิดประสิทธิภาพ โปร่งใส เป็นธรรม และประหยั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. 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ปรับปรุงกฎหมายและระเบียบเพื่อส่งเสริมการกระจายอำนาจสู่ท้องถิ่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157640" y="2470320"/>
            <a:ext cx="4093920" cy="669960"/>
            <a:chOff x="4157640" y="2470320"/>
            <a:chExt cx="4093920" cy="669960"/>
          </a:xfrm>
        </p:grpSpPr>
        <p:sp>
          <p:nvSpPr>
            <p:cNvPr id="66" name=""/>
            <p:cNvSpPr/>
            <p:nvPr/>
          </p:nvSpPr>
          <p:spPr>
            <a:xfrm>
              <a:off x="4157640" y="2470320"/>
              <a:ext cx="4093920" cy="549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7640" y="2470320"/>
              <a:ext cx="4093920" cy="669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ประเด็นยุทธศาสตร์ที่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ส่งเสริมการพัฒนาเศรษฐกิจ การจัดการสิ่งแวดล้อมตามหลักปรัชญาเศรษฐกิจพอเพียง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176720" y="3098880"/>
            <a:ext cx="4094280" cy="1086480"/>
            <a:chOff x="4176720" y="3098880"/>
            <a:chExt cx="4094280" cy="1086480"/>
          </a:xfrm>
        </p:grpSpPr>
        <p:sp>
          <p:nvSpPr>
            <p:cNvPr id="69" name=""/>
            <p:cNvSpPr/>
            <p:nvPr/>
          </p:nvSpPr>
          <p:spPr>
            <a:xfrm>
              <a:off x="4176720" y="3098880"/>
              <a:ext cx="4094280" cy="274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ป้าประสงค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6720" y="3363480"/>
              <a:ext cx="4092840" cy="82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พื่อให้องค์กรปกครองส่วนท้องถิ่น ดำเนินการพัฒนาเศรษฐกิจฐานราก เพื่อแก้ไขปัญหาความยากจน และการจัดการสิ่งแวดล้อมตามหลักปรัชญาเศรษฐกิจพอเพียง   เพื่อให้เกิดความสมดุล มั่นคง และยั่งยื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130640" y="4557600"/>
            <a:ext cx="4100040" cy="959760"/>
            <a:chOff x="4130640" y="4557600"/>
            <a:chExt cx="4100040" cy="959760"/>
          </a:xfrm>
        </p:grpSpPr>
        <p:sp>
          <p:nvSpPr>
            <p:cNvPr id="72" name=""/>
            <p:cNvSpPr/>
            <p:nvPr/>
          </p:nvSpPr>
          <p:spPr>
            <a:xfrm>
              <a:off x="4130640" y="4557600"/>
              <a:ext cx="4098600" cy="274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ลยุทธ์หลั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30640" y="4839840"/>
              <a:ext cx="4100040" cy="67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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นำหลักปรัชญาเศรษฐกิจพอเพียงมาใช้ในการเสริมสร้างเศรษฐกิจฐานราก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แก้ไขปัญหาความยากจนและการจัดการสิ่งแวดล้อ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8429760" y="2481120"/>
            <a:ext cx="3666600" cy="540000"/>
            <a:chOff x="8429760" y="2481120"/>
            <a:chExt cx="3666600" cy="540000"/>
          </a:xfrm>
        </p:grpSpPr>
        <p:sp>
          <p:nvSpPr>
            <p:cNvPr id="75" name=""/>
            <p:cNvSpPr/>
            <p:nvPr/>
          </p:nvSpPr>
          <p:spPr>
            <a:xfrm>
              <a:off x="8429760" y="2481120"/>
              <a:ext cx="3666600" cy="540000"/>
            </a:xfrm>
            <a:prstGeom prst="rect">
              <a:avLst/>
            </a:prstGeom>
            <a:gradFill rotWithShape="0">
              <a:gsLst>
                <a:gs pos="0">
                  <a:srgbClr val="66ff6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29760" y="2481120"/>
              <a:ext cx="3666600" cy="4874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4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ประเด็นยุทธศาสตร์ที่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ส่งเสริมการพัฒนาสังคมบนพื้นฐานของคุณธรร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8424720" y="3070080"/>
            <a:ext cx="3672000" cy="274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ป้าประสงค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24720" y="3330720"/>
            <a:ext cx="3672000" cy="268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องค์กรปกครองส่วนท้องถิ่นมีบทบาทในการสร้างความรู้ความเข้าใจการปกครองในระบอบประชาธิปไตยอันมีพระมหากษัตริย์ทรงเป็นประมุ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องค์กรปกครองส่วนท้องถิ่นมีขีดความสามารถในการจัดการศึกษา   ของท้องถิ่น อย่างมีคุณภาพโดยยึดหลักความเสมอภาค และหลักคุณธรรมนำความรู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องค์กรปกครองส่วนท้องถิ่นสามารถจัดบริการสาธารณสุขและสวัสดิการสังคมที่จำเป็น โดยเฉพาะกลุ่มผู้ด้อยโอกาส ได้อย่างมีคุณภาพและทั่วถึ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องค์กรปกครองส่วนท้องถิ่น มีบทบาทในการส่งเสริมคุณธรรม  ความสามัคคี เอื้ออาทร และสมานฉันท์ของ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พื่อให้องค์กรปกครองส่วนท้องถิ่นมีบทบาทในการรักษาความมั่นคงของรัฐ  โดยเฉพาะในพื้นที่จังหวัดชายแดนภาคใต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424720" y="5464080"/>
            <a:ext cx="3671640" cy="2059920"/>
            <a:chOff x="8424720" y="5464080"/>
            <a:chExt cx="3671640" cy="2059920"/>
          </a:xfrm>
        </p:grpSpPr>
        <p:sp>
          <p:nvSpPr>
            <p:cNvPr id="80" name=""/>
            <p:cNvSpPr/>
            <p:nvPr/>
          </p:nvSpPr>
          <p:spPr>
            <a:xfrm>
              <a:off x="8424720" y="5464080"/>
              <a:ext cx="3668400" cy="274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ลยุทธ์หลั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24720" y="5751360"/>
              <a:ext cx="3671640" cy="177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EucrosiaUPC"/>
                </a:rPr>
                <a:t>1. 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ส่งเสริมการจัดบริการสังคมขั้นพื้นฐาน ทั้งด้านการศึกษาสาธารณสุข และ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EucrosiaUPC"/>
                </a:rPr>
                <a:t>   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การคุ้มครองทางสังคมอย่างทั่วถึงและเป็นธรร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EucrosiaUPC"/>
                </a:rPr>
                <a:t>2.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ใช้หลักการประชาธิปไตยแบบมีส่วนร่วมและหลักคุณธรรม จริยธรร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EucrosiaUPC"/>
                </a:rPr>
                <a:t>   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และความสมานฉันท์ เป็นแนวทางหลักในการพัฒนาสังค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EucrosiaUPC"/>
                </a:rPr>
                <a:t>3. 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EucrosiaUPC"/>
                </a:rPr>
                <a:t>ร่วมมือกับหน่วยงานด้านความมั่นคงในการพัฒนาการศึกษา คุณภาพชีวิต และสังคมในจังหวัดชายแดนภาคใต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44440" y="17640"/>
            <a:ext cx="3716280" cy="7548840"/>
            <a:chOff x="244440" y="17640"/>
            <a:chExt cx="3716280" cy="7548840"/>
          </a:xfrm>
        </p:grpSpPr>
        <p:sp>
          <p:nvSpPr>
            <p:cNvPr id="83" name=""/>
            <p:cNvSpPr/>
            <p:nvPr/>
          </p:nvSpPr>
          <p:spPr>
            <a:xfrm>
              <a:off x="244440" y="17640"/>
              <a:ext cx="3716280" cy="274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แผนงา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/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 ปี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4440" y="301680"/>
              <a:ext cx="3716280" cy="726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 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ารพัฒนาคุณภาพทรัพยากรบุคคล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1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ัดทำหลักสูตรและฝึกอบรมท้องถิ่นจังหวัด ท้องถิ่นอำเภอ ให้ทำหน้าที่เป็นตัวแทนของกรมส่งเสริมการปกครองท้องถิ่นอย่างมีประสิทธิภาพ โดยมีเป้าหมาย  ให้ครบถ้วนภายในปี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2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ปรับปรุงหลักสูตรการพัฒนาบุคลากรท้องถิ่นทั้งในระยะสั้น และหลักสูตรระดับปริญญาตรี ปริญญาโท ให้มีเนื้อหาวิชาเกี่ยวกับธรรมาภิบาล และปรัชญาเศรษฐกิจพอเพีย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4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ัดทำมาตรฐานการบริหารงานบุคคล ขององค์กรปกครองส่วนท้องถิ่น สำหรับการพิจารณาเงินรางวัลประจำป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ดยใช้หลักประสิทธิภาพ โปร่งใส เป็นธรรมและประหยั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 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การพัฒนาระบบบริหารจัดการ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1)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จัดให้มีระบบนิเทศ การติดตามและรับรองมาตรฐานการปฏิบัติราชการของ องค์กรปกครองส่วนท้องถิ่น ทุกแห่งภายในปี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2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ปรับปรุงและพัฒนาท้องถิ่นจังหวัดและสำนักงานองค์กรปกครอง             ส่วนท้องถิ่น โดยเน้นระบบการปฏิบัติราชการและจัดบริการประชาชน               ภายในสำนักงา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3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นับสนุนให้องค์กรปกครองส่วนท้องถิ่น ตั้งคณะกรรมการเกี่ยวกับหน้าที่สาธารณะ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ดยการมีส่วนร่วมของภาคประชาชนและฝึกอบรมภาคประชาชน                 ที่เข้าร่วมเป็นกรรมการ และการส่งเสริมการมีส่วนร่วมของประชาชนในการสร้าง ธรรมาภิบาลในท้องถิ่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4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ศูนย์รวบรวมข้อมูลข่าวสารการจัดซื้อจัดจ้าง ขององค์กรปกครอง      ส่วนท้องถิ่น และศูนย์กลางการจัดซื้อจัดจ้างระดับจังหวัด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5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วางระบบควบคุมภายในที่ดี มีประสิทธิภาพและมีมาตรฐาน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6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พัฒนาระบบสารสนเทศเพื่อการติดตามและประเมินผลแผนพัฒนาท้องถิ่นและงบประมา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. </a:t>
              </a:r>
              <a:r>
                <a:rPr b="1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ปรับปรุงกฎหมายและระเบียบเพื่อส่งเสริมการกระจายอำนาจสู่ท้องถิ่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.1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ศึกษาวิเคราะห์เพื่อเป็นแนวทางในการแก้ไขกฎหมา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.2)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รวบรวมเนื้อหากฎหมายเกี่ยวกับการบริหารงานบุคคลตามแผนพัฒนากฎหมาย ประจำปี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364600" y="293760"/>
            <a:ext cx="3732120" cy="843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ส่งเสริมการจัดบริการสังคมขั้นพื้นฐาน ทั้งด้านการศึกษาสาธารณสุข แล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</a:rPr>
              <a:t>การคุ้มครองทางสังคมอย่างทั่วถึงและเป็น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1)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ปรับปรุงหลักสูตรการศึกษาทุกระดับขององค์กรปกครองส่วนท้องถิ่นในเรื่องปรัชญาเศรษฐกิจพอเพียง คุณธรรม จริยธรรม ความรักชาติ ศาสนา  และสถาบันพระมหากษัตริย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2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คุณภาพการบริหารจัดการศูนย์พัฒนาเด็กเล็ก โดยมีเป้าหมายในปี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550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ดังนี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1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จัดทำมาตรฐาน และการประเมินผลครบทุกแห่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2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ฝึกอบรมผู้ดูแลเด็ก ให้ครบทุกแห่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3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รณรงค์ให้องค์กรปกครองส่วนท้องถิ่นจัดสร้างศูนย์พัฒนาเด็กเล็กเพิ่มขึ้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3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พัฒนาคุณภาพการจัดการศึกษาขององค์กรปกครองส่วนท้องถิ่นให้มีคุณภาพดีขึ้น โดยผ่านเกณฑ์การประเมินจาก สมศ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ระทรวงศึกษาธิก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4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่งเสริมให้องค์กรปกครองส่วนท้องถิ่นพัฒนาคุณภาพตลาด โดยผ่านเกณฑ์มาตรฐาน   ไม่น้อยกว่าร้อยละ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1.5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่งเสริมการจัดสวัสดิการสังคมแก่ผู้ด้อยโอกาส สนับสนุนให้จ่ายเงินสงเคราะห์คนชรา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,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โรคเอดส์ และคนพิการ อย่างทั่วถึง และส่งเสริม ให้ อสม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.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ระทรวง ศึกษาธิการ เข้ามามีส่วนร่วมในการดูแลคนชรา เพิ่มมากขึ้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ใช้หลักการประชาธิปไตยแบบมีส่วนร่วมและหลักคุณธรรม จริยธ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 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และความสมานฉันท์ เป็นแนวทางหลักในการพัฒนา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1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จัดงาน “วันท้องถิ่นไทย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2.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โครงการจัดกิจกรรมเทิดประเกียรติพระบาทสมเด็จพระเจ้าอยู่หัว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3 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นับสนุนและร่วมกับกรมการปกครอง กรมการพัฒนาชุมชน และองค์กรปกครอง     ส่วนท้องถิ่น ในการให้ความรู้ประชาชนเกี่ยวกับการปกครองระบอบประชาธิปไตยอันมีพระมหากษัตริย์ทรงเป็นประมุข </a:t>
            </a:r>
            <a:r>
              <a:rPr b="0" lang="th-TH" sz="1200" spc="-1" strike="noStrike">
                <a:solidFill>
                  <a:srgbClr val="cc0000"/>
                </a:solidFill>
                <a:latin typeface="Arial"/>
                <a:ea typeface="FreesiaUPC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2.4.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โครงการส่งเสริมการจัดกิจกรรมทางศาสนา ศิลปวัฒนธรรม เพื่อสืบทอดการดำรงชีวิตความเป็นไท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3. </a:t>
            </a:r>
            <a:r>
              <a:rPr b="1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ร่วมมือกับหน่วยงานด้านความมั่นคงในการพัฒนาการศึกษา คุณภาพชีวิต และสังคมในจังหวัดชายแดนภาคใต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3.1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จัดการศึกษาใน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3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จังหวัดชายแดนภาคใต้ โดยพัฒนาและส่งเสริมหลักสูตรอิสลามศึกษาควบคู่กับการศึกษาสายสามัญ </a:t>
            </a:r>
            <a:r>
              <a:rPr b="0" lang="th-TH" sz="1200" spc="-1" strike="noStrike">
                <a:solidFill>
                  <a:srgbClr val="cc0000"/>
                </a:solidFill>
                <a:latin typeface="Arial"/>
                <a:ea typeface="FreesiaUPC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3.2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โครงการพัฒนาคุณภาพชีวิตของประชาชนระดับตำบล ในจังหวัดชายแดนภาคใต้ 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ร่วมสนับสนุนการดำเนินงานของ ศอ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.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cs typeface="FreesiaUPC"/>
              </a:rPr>
              <a:t>บต</a:t>
            </a: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FreesiaUPC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03640" y="22320"/>
            <a:ext cx="4105080" cy="2179080"/>
            <a:chOff x="4103640" y="22320"/>
            <a:chExt cx="4105080" cy="2179080"/>
          </a:xfrm>
        </p:grpSpPr>
        <p:sp>
          <p:nvSpPr>
            <p:cNvPr id="87" name=""/>
            <p:cNvSpPr/>
            <p:nvPr/>
          </p:nvSpPr>
          <p:spPr>
            <a:xfrm>
              <a:off x="4110120" y="303120"/>
              <a:ext cx="4098600" cy="18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1.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ส่งเสริมศักยภาพขององค์กรปกครอง                                                ส่วนท้องถิ่นในการจัดหา ซ่อมแซมที่อยู่อาศัย                                               ให้ประชาชน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80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พรรษา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8,000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หลัง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) </a:t>
              </a:r>
              <a:r>
                <a:rPr b="0" lang="th-TH" sz="1200" spc="-1" strike="noStrike">
                  <a:solidFill>
                    <a:srgbClr val="cc0000"/>
                  </a:solidFill>
                  <a:latin typeface="Arial"/>
                  <a:ea typeface="FreesiaUPC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.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ขุดสระน้ำให้แก่เกษตรกรตามแนวทฤษฎีใหม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3.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ส่งเสริมให้องค์กรปกครองส่วนท้องถิ่นจัดทำข้อบัญญัติ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เทศบัญญัติ ในการติดตั้งระบบบำบัดน้ำเสีย และบ่อดักไขมันครัวเรือน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500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แห่งในปี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55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8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4. </a:t>
              </a: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จัดการสิ่งแวดล้อมโดยการก่อสร้างฝายต้นน้ำ </a:t>
              </a:r>
              <a:r>
                <a:rPr b="0" lang="th-TH" sz="7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(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Check Dam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3640" y="22320"/>
              <a:ext cx="4105080" cy="2743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แผนงาน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/</a:t>
              </a:r>
              <a:r>
                <a:rPr b="1" lang="hi-IN" sz="12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โครงการ ปี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FreesiaUPC"/>
                </a:rPr>
                <a:t>2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311880" y="398520"/>
            <a:ext cx="176400" cy="430200"/>
          </a:xfrm>
          <a:custGeom>
            <a:avLst/>
            <a:gdLst>
              <a:gd name="textAreaLeft" fmla="*/ 0 w 176400"/>
              <a:gd name="textAreaRight" fmla="*/ 63720 w 176400"/>
              <a:gd name="textAreaTop" fmla="*/ 11160 h 430200"/>
              <a:gd name="textAreaBottom" fmla="*/ 41904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05560" y="412920"/>
            <a:ext cx="1584360" cy="548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Arial"/>
                <a:cs typeface="FreesiaUPC"/>
              </a:rPr>
              <a:t>โครงการเฉลิมพระเกียรติในวโรกาสเฉลิมพระชนมพรรษาคร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FreesiaUPC"/>
              </a:rPr>
              <a:t>80 </a:t>
            </a:r>
            <a:r>
              <a:rPr b="0" lang="hi-IN" sz="1000" spc="-1" strike="noStrike">
                <a:solidFill>
                  <a:srgbClr val="000000"/>
                </a:solidFill>
                <a:latin typeface="Arial"/>
                <a:cs typeface="FreesiaUPC"/>
              </a:rPr>
              <a:t>พรร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67840" y="12600"/>
            <a:ext cx="3741480" cy="2743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EucrosiaUPC"/>
              </a:rPr>
              <a:t>แผนงาน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EucrosiaUPC"/>
              </a:rPr>
              <a:t>/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EucrosiaUPC"/>
              </a:rPr>
              <a:t>โครงการ ป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EucrosiaUPC"/>
              </a:rPr>
              <a:t>2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098960" y="1325520"/>
            <a:ext cx="4032360" cy="1724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98960" y="1325520"/>
            <a:ext cx="403236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นโยบายเศรษฐกิ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1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ภาคเศรษฐกิจฐานรา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1.1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เกษตรกรร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1.2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ผลิตภัณฑ์ชุมชนและท้องถิ่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1.3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แรงงา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2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ภาคเศรษฐกิจระบบตลา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2.4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ท่องเที่ย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2.6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โครงสร้างพื้นฐานทางเศรษฐกิ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2.2.8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การจัดการด้านทรัพยากรธรรมชาติและสิ่งแวดล้อ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160" y="1325520"/>
            <a:ext cx="3660480" cy="1663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000" y="1700280"/>
            <a:ext cx="3590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1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นโยบายการปฏิรูปการเมือง การปกครอง และการบริหา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1.2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สริมสร้างมาตรการในการป้องกันและปราบปรามการทุจริต             และประพฤติมิชอ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1.7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มุ่งเน้นการบริหารทรัพยากรบุคคล และการจัดการองค์กรภาครั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1.8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นับสนุนการกระจายอำนาจอย่างต่อเนื่อ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64600" y="1325520"/>
            <a:ext cx="3600360" cy="17352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64600" y="1501920"/>
            <a:ext cx="360036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3. </a:t>
            </a: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นโยบายสังค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3.1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่งเสริมความรัก ความสามัคคี ความสมานฉันท์   ของคนในชาต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3.2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เร่งรัดการปฏิรูปการศึกษา โดยยึดหลักคุณธรรม  นำความรู้และ   การสร้างวิถีชีวิตประชาธิปไต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3.4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พัฒนาสุขภาวะของประชาชนให้ครอบคลุมทั้งมิติกาย จิต สังคม และปัญญ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3.5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่งเสริมกีฬาขั้นพื้นฐานและกีฬามวลช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FreesiaUPC"/>
              </a:rPr>
              <a:t>3.6 </a:t>
            </a:r>
            <a:r>
              <a:rPr b="0" lang="hi-IN" sz="1200" spc="-1" strike="noStrike">
                <a:solidFill>
                  <a:srgbClr val="000000"/>
                </a:solidFill>
                <a:latin typeface="Arial"/>
                <a:cs typeface="FreesiaUPC"/>
              </a:rPr>
              <a:t>ส่งเสริมให้ทุกภาคส่วนของสังคม มีส่วนร่วมในการพัฒนาสังคมไทยให้เป็นสังคมที่มีสันติสุขอย่างยั่งยื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59040" y="1076400"/>
            <a:ext cx="36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45360" y="10666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516640" y="822240"/>
            <a:ext cx="1725480" cy="335160"/>
            <a:chOff x="5516640" y="822240"/>
            <a:chExt cx="1725480" cy="335160"/>
          </a:xfrm>
        </p:grpSpPr>
        <p:sp>
          <p:nvSpPr>
            <p:cNvPr id="101" name=""/>
            <p:cNvSpPr/>
            <p:nvPr/>
          </p:nvSpPr>
          <p:spPr>
            <a:xfrm>
              <a:off x="5575320" y="835560"/>
              <a:ext cx="1620360" cy="273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16640" y="822240"/>
              <a:ext cx="1725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rial"/>
                  <a:cs typeface="FreesiaUPC"/>
                </a:rPr>
                <a:t>นโยบายรัฐบา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849320" y="10764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202760" y="106668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0360" y="515880"/>
            <a:ext cx="50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75280" y="46188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64360" y="1181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53800" y="539640"/>
            <a:ext cx="5029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8:43:37Z</dcterms:created>
  <dc:creator>USER_124</dc:creator>
  <dc:description/>
  <dc:language>en-US</dc:language>
  <cp:lastModifiedBy>iLLUSiON</cp:lastModifiedBy>
  <dcterms:modified xsi:type="dcterms:W3CDTF">2006-12-20T08:47:03Z</dcterms:modified>
  <cp:revision>89</cp:revision>
  <dc:subject/>
  <dc:title>ภาพนิ่ง 1</dc:title>
</cp:coreProperties>
</file>